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A3583FC1-A9E2-4D1F-A2C9-F7DB5B723B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38E-DD3F-4F95-B4EE-B729BD78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8CD-80A9-4501-8EC9-FD17BAE4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33D-41AA-4EB0-AA5E-E03A163B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6D7-2063-4D17-B798-0E5EDFD6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DD6-7E41-4E0E-B5DF-E2F36518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89F-62F0-496A-A2EA-5C61997E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168-3C36-4FC1-8F40-0E576965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A08-F0AB-4665-AEDD-C352337A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587-2180-4BA8-B560-E812C61C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834-030E-401D-ABA0-2163F6F8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AF3-077B-4507-9E5C-44987DE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FB7-A4B1-43A6-A7A8-5A4C58CA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5F78DB-F7E9-4665-AC59-8DE33348D0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369160" y="2065320"/>
            <a:ext cx="5421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The Spirit’s Fire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 now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r fire with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 as our frie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r ligh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 guide through what's ahea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 now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 now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mighty fl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lling us high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ver the s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rn in our heart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ow through our vein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power mad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s universe we se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power sav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r lives and set us fre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power's here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ong us as we s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're everyth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're everyth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mighty fl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lling us high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ver the s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rn in our heart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ow through our vein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ive us your fir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 carry us al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ive us desir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 build the kingdom str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ive us the dream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hen the dream is don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'll be with you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'll be with you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mighty fl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lling us high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ver the s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rn in our heart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ow through our vein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2x)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Wade, Peter</cp:lastModifiedBy>
  <dcterms:modified xsi:type="dcterms:W3CDTF">2015-08-26T23:44:44Z</dcterms:modified>
  <cp:revision>1915</cp:revision>
  <dc:subject/>
  <dc:title>Slide 1</dc:title>
</cp:coreProperties>
</file>